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AC8F-A2AD-4499-AD17-79B30FE2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C342-55C1-4208-9662-B8D8033C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302-624C-41AD-BC84-F7285D52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5CE-BAA2-4C5C-A6DE-05835E8F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958-8C6C-4862-9F69-E6415378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BBF-3CB4-452B-A1C1-C875D84C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B5628-B510-468C-B1E6-1E0CE7E3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E242-F2DC-4F68-9EBD-BDA53551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A459-6D91-4C30-BB9A-02CDA18D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5CE5-3542-4348-B8F9-1E31C4A8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83F5-1E61-4F71-8DFC-28128C02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5BE5-6313-4784-872E-26CC9013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3BFA-68E2-45FC-8EE2-DA23FA36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C569-D9B4-4AA4-9146-1E16DA4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988-8677-4D18-86F9-B5FFD0E6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E713-1F0D-4588-ACDF-AF525BFE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B146-406D-47F8-9B3D-FB5C00C8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791-34CE-49C3-93ED-9B138299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C6E-D649-4B47-82D4-0F181B3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70D-A6D5-4463-83C4-C8C06BA1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D2E-00CD-4DC9-A259-89AE3B99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B6BB-BFE0-4BAC-A119-92B2A8C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841-4E35-43FB-8273-818287FD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681-7FA3-4C05-AFFC-6847BC42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F7B7-4837-4388-938C-2F84C053869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70BF-3295-411D-8924-CE362763BEE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ast Continuous Te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рошедшее продолженное время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на фоне другого действия в прошлом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, when dad came 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, когда вошел пап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760" indent="11160">
              <a:spcBef>
                <a:spcPts val="751"/>
              </a:spcBef>
              <a:buClr>
                <a:srgbClr val="cc990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292929"/>
                </a:solidFill>
                <a:latin typeface="Arial"/>
              </a:rPr>
              <a:t>Обозначает действие, которое длилось в течение конкретного периода в прошлом (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at 6 o’clock yesterday, yesterday in the morning)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.g.: Mum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was cooking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supper at 7 o’clock yesterda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77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ама готовила ужин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чера в 7 часов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835280" y="2276280"/>
            <a:ext cx="568944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33cc"/>
                </a:solidFill>
                <a:latin typeface="Arial"/>
              </a:rPr>
              <a:t>Was\were</a:t>
            </a:r>
            <a:r>
              <a:rPr b="0" lang="en-US" sz="5600" spc="-1" strike="noStrike">
                <a:solidFill>
                  <a:srgbClr val="292929"/>
                </a:solidFill>
                <a:latin typeface="Arial"/>
              </a:rPr>
              <a:t> + </a:t>
            </a:r>
            <a:r>
              <a:rPr b="0" lang="en-US" sz="56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5600" spc="-1" strike="noStrike" baseline="-25000">
                <a:solidFill>
                  <a:srgbClr val="ff9900"/>
                </a:solidFill>
                <a:latin typeface="Arial"/>
              </a:rPr>
              <a:t>ing</a:t>
            </a:r>
            <a:endParaRPr b="0" lang="en-US" sz="5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78936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I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answer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question, when the teacher was asked for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5157720"/>
            <a:ext cx="6121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John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was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visiting</a:t>
            </a:r>
            <a:r>
              <a:rPr b="0" lang="en-US" sz="3000" spc="-1" strike="noStrike">
                <a:solidFill>
                  <a:srgbClr val="292929"/>
                </a:solidFill>
                <a:latin typeface="Arial"/>
              </a:rPr>
              <a:t> the USA, when his sister got married.</a:t>
            </a:r>
            <a:endParaRPr b="0" lang="en-US" sz="3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проси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Общий вопрос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03280" y="3141720"/>
            <a:ext cx="61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 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 his homework, when the phone rang up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3141720"/>
            <a:ext cx="865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500280"/>
            <a:ext cx="431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01874E-006 L -0.04671 -0.06037 C -0.0566 -0.07356 -0.07119 -0.08073 -0.08629 -0.08073 C -0.10348 -0.08073 -0.11737 -0.07356 -0.12709 -0.06037 L -0.17327 -3.01874E-006 E">
                                      <p:cBhvr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000440" y="165240"/>
            <a:ext cx="702036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ицательная фор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141720"/>
            <a:ext cx="115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doing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47640" y="3141720"/>
            <a:ext cx="865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Arial"/>
              </a:rPr>
              <a:t>wa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141720"/>
            <a:ext cx="23763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is homework, when the phone rang up.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He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3141720"/>
            <a:ext cx="64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not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0 E">
                                      <p:cBhvr>
                                        <p:cTn id="8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7:43:12Z</dcterms:created>
  <dc:creator>Люда</dc:creator>
  <dc:description/>
  <dc:language>en-US</dc:language>
  <cp:lastModifiedBy>Кошелев</cp:lastModifiedBy>
  <dcterms:modified xsi:type="dcterms:W3CDTF">2007-10-30T09:08:40Z</dcterms:modified>
  <cp:revision>26</cp:revision>
  <dc:subject/>
  <dc:title>The Present Perfect Tense</dc:title>
</cp:coreProperties>
</file>